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583-3C33-4686-9ACB-18535FEA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2AC-B7B4-4199-AF05-BFB5D394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581-EF11-48B3-9C02-70F6CCD9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2E1-4937-4D17-A11D-2361BD96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80D-6F31-419B-A500-C9A46E7B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90E-E8E9-49AC-B111-79761C39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A6F-D403-4850-ADD7-960D71E6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F17-6B47-436A-B696-C956CAC3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461-3A7A-430D-9A87-34A2760B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9C9-654D-4F0B-9661-EF02D8ED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384-BE2D-4E70-8E32-A7C4F381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368-84B3-4F88-BF60-76C65ADD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9754-6451-40B4-B000-589874845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9:21:15Z</dcterms:created>
  <dc:creator>abeason</dc:creator>
  <dc:description/>
  <dc:language>en-US</dc:language>
  <cp:lastModifiedBy>abeason</cp:lastModifiedBy>
  <dcterms:modified xsi:type="dcterms:W3CDTF">2009-01-27T19:21:21Z</dcterms:modified>
  <cp:revision>1</cp:revision>
  <dc:subject/>
  <dc:title>Slide 1</dc:title>
</cp:coreProperties>
</file>